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19.jpeg" ContentType="image/jpeg"/>
  <Override PartName="/ppt/media/image18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051C-0FC6-4639-BC56-090AC670CB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B0F2-5C71-4DC6-B0BB-33A634A62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A324-4F52-488C-AA21-CF0EAFE86A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FF64-9445-474D-832A-B00CEAA607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4A29-5B12-4B7F-8704-E462487A8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5CC-0CBE-4E64-AABF-BC632BDB87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BF9-A277-4325-B9B5-32EE232D5B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BAE0-B7E4-4394-B190-CB26D57ED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73FB-22F7-445C-893A-E10249418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0B4E-0960-4694-8291-64F3F5069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CED2-5898-40E5-B101-387172CE22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0979-564C-4143-9C45-A1B297200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25D9-8527-442B-AA23-FEC277B1C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C558-EF5B-4305-9FAB-BBB432B758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AE1E-E268-4BE8-9C96-4A8050DEFC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9D47-F77A-4A27-B7FC-296B74B62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757-085E-4274-9453-1D331232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13C-2F46-4C86-AC26-D4CE4BB1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AF7-AAE8-484A-B0D2-482EE44F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F5C-7FA5-43EF-9EF9-C0C3B97E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5484-6E8D-487C-85F0-B8B972CC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8FCE-7078-4BFD-88B2-6E4AB5C4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93D7-0896-4063-AE39-94CE2F7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441C-E689-451B-A99E-1E79279A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43FD-6A94-4EA5-BCE7-64B8B201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EDB1-63B0-4F5E-8BC5-0F0D1FC6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F54C-4E62-49EC-B26A-E059F58A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DCDE-662C-40F2-9A89-624DC07D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5AE4-64C4-4893-96F0-EB1F96A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5279-A976-4E14-8783-55DE64C5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237B-D1BC-4491-A09A-E862152D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101F-F186-4B91-B62C-B08E33CE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4CC6-EEE0-4DE9-9F9C-2B10C1B9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5257C-1272-4124-9EF5-7555F80F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4B94-1A5D-417E-B0DC-1D4D68A7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9C486-4C49-4E6A-BEBA-45C21BDD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D69B-00C4-4B1A-934B-75821B2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64FDA-85DE-4DF7-8E7F-912F2D1A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F38-36DB-4210-8F26-7C6FB062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F59F3-142E-43D5-AA74-633EE5E3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6D6B1-6D1C-4638-9457-6680D0D1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AD2F-92B7-4699-9176-856F4344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7680-9849-4DE5-846E-C965AE13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3D2E-B408-42EC-87A1-AD870DD3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79C2D-F9EC-45FA-8679-8EB270F2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69DB-2DA9-4CB3-B282-5507CB60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01C0-E20F-401C-AB3B-D54C8315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75FFF-DD50-4CBB-B29F-4A210707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8AC8-1575-4E47-B348-EE0B81B9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D2D-DD0E-4AEE-ABF0-29277827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10A6-74CF-4D49-8113-6CED9133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65ABC-AB57-40E2-85E2-C531E8D5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8F928-5FAF-4085-9658-2984D1A1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591C4-5BDE-499F-A4A9-493938E4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40707-E546-4FD2-A65E-1316D46F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480D6-88CF-4787-B520-71CD4F3F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566D3-BC37-4408-B3C4-E27E9D4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94809-2901-4E7D-8920-01CE5899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9EA5-64CD-4AD1-A340-37A2F2E4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5CC93-2CDC-49FF-826C-FBD10D6F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1853-BB3D-4C1B-8C39-C22719F1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92F1B-CC42-4EE1-87F9-CC3C8540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6B2C0-7B63-4EDA-978C-182792AD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C0173-532C-41F2-BA5A-5DE68E6F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4547B-EAC2-4904-BA00-D884CC29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5DF0-52D8-4A86-94A0-A494E6B9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EF418-F126-41E8-A647-7A134ECF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0B0C9-3577-4DE4-891E-8EB31640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0441-3F5D-445A-80F3-F7D9BD76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FE433-928C-4A16-9F05-D3D7CF21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4362-194E-4F0E-8C44-97DD4127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C4A-AE23-455D-A627-D4BA9F75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C981F-56B4-4D57-BB58-6F2969BA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DEFA0-1CFC-481A-80DE-CE648886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830A-84A1-402D-98F7-870A967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9E61-2D09-42BA-A8A9-9BE765B9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2690-5EBC-49C6-A6DC-E2EE46F3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844D2-4777-4350-9B1E-8AF6A613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18654-4588-413A-BB0A-BCC0303A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BD0A0-CEAC-455B-BC48-C572F67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74D65-A483-40EE-AF7C-E7FB96E1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BE919-F581-4DFF-BA52-52E372FC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BFD-FB1E-4FD7-BDFA-D058B70E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AC244-E6FA-43CB-A3BC-7C3B9568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92A9E-800F-42B0-BE6B-69472569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4AE19-A718-47D7-BB1D-E87E947F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B465C-333B-45DE-8949-FF584392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91E81-3E69-4C93-9357-1759AAD4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FC37A-9CCB-406A-801F-ABD6899D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B59FA-9EC2-4605-8D0E-9262BA0E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2D2A8-804F-4FA7-940D-125E16E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92E2-7E72-452F-8F64-545209D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EDF36-6C86-483A-9403-FCC20100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E89-F1CB-4FC5-899E-051E916D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BE74B-9681-4371-B9F5-D2DDB975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2E476-CB26-49C8-A302-F747773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A3396-34CB-46A8-9FBE-BC99B4B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F8128-8953-4E72-B63F-A5F935D0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01E65-2077-4FF9-B154-41AED038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5235-BDAA-4E3A-8AEC-69EA4F07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26855-A84C-4A65-B5EA-015172BD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7F1CC-DF98-417F-90D9-D21D043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FBC6C-4564-45C3-A68E-41CD5021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56FB9-D559-4988-8E45-8E48D118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707-DCAD-4786-BAA2-24103A82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601A-431E-4597-A50C-87A045F0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61654-1FC3-4B27-B3FD-E565BBFC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C0A14-A9BE-47DD-94AB-A059330A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CA7AB-474E-45A2-8398-5DF40CE3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DCCDF-9449-4FB7-9183-398A312E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293D3-17A3-4A6D-AC93-E94273D4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7B5D8-1284-408E-8F0D-06E7956C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BD54-8E10-44E9-A67C-AAB83F6950B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6154-3ED8-4F53-867F-E39757AF22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26AE-BFC9-497E-A6BF-E42B3DE3F09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3018F-614B-4DF2-8B2A-E0EC6444CA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5AB7-CE13-4A02-B5A9-D8FC855004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7D8-7B41-4149-B046-E57CA2A2E77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5BC6-1499-449D-A3D5-98BBC00791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B76-966D-4C78-9685-A4E47738098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wm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Вершинин Никита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Родился 20</a:t>
            </a: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октября 1998г. 3 а клас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лександр Кержа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вард сборной России по футболу Александр Кержаков. Он является одним из самых молодых и перспективных нападающих наше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7" descr="5de0018i"/>
          <p:cNvPicPr/>
          <p:nvPr/>
        </p:nvPicPr>
        <p:blipFill>
          <a:blip r:embed="rId1"/>
          <a:stretch/>
        </p:blipFill>
        <p:spPr>
          <a:xfrm>
            <a:off x="4703760" y="1676520"/>
            <a:ext cx="3490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ергей Овчинник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тарь сборной России по футболу Сергей Овчинников. На протяжении нескольких лет он с успехом защищает ворота главной команды страны, а также московского «Локомотива» в составе которого в 2002 году Сергей стал чемпионом Ро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7" descr="5de0017i"/>
          <p:cNvPicPr/>
          <p:nvPr/>
        </p:nvPicPr>
        <p:blipFill>
          <a:blip r:embed="rId1"/>
          <a:stretch/>
        </p:blipFill>
        <p:spPr>
          <a:xfrm>
            <a:off x="4648320" y="2014560"/>
            <a:ext cx="3504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ля справ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Россию футбол пришел в конце 19 ве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знанными лидерами мирового футбола в Европе являются сборные команды Франции, Германии, Англии, Италии, Испании, в Южной Америке — бразильцы, аргентинц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Крупнейшими футбольными турнирами являются чемпионат мира и чемпионат Европы, которые проводятся раз в четыре год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Футбол — олимпийский вид, но победа на Олимпиаде не считается высшим достижением в футболе (в отличие от других видов); главный турнир — чемпионат ми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Лучшие тренеры сборных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Гус Хиддинк занял второе место в списке лучших тренеров сбор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ждународная федерация футбольной истории и статистики (IFFHS) подвела итоги опроса своих экспертов, которые выбирали лучшего среди главных тренеров национальных сборных 2008 года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ервом месте оказался 70-летний Луис Арагонес, приведший команду Испании к званию чемпиона Европы. Вторую строчку занял главный тренер российской команды Гус Хиддинк, а замкнул тройку наставник турецкой сборной Фатих Терим, которая, как и российская, стала бронзовым призером ЕВРО-2008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есёлые картин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97" name="Picture 13" descr="j0301476"/>
          <p:cNvPicPr/>
          <p:nvPr/>
        </p:nvPicPr>
        <p:blipFill>
          <a:blip r:embed="rId1"/>
          <a:stretch/>
        </p:blipFill>
        <p:spPr>
          <a:xfrm>
            <a:off x="1577880" y="1919160"/>
            <a:ext cx="1797120" cy="154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4" descr="j0323802"/>
          <p:cNvPicPr/>
          <p:nvPr/>
        </p:nvPicPr>
        <p:blipFill>
          <a:blip r:embed="rId2"/>
          <a:stretch/>
        </p:blipFill>
        <p:spPr>
          <a:xfrm>
            <a:off x="4952880" y="18288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j0396714"/>
          <p:cNvPicPr/>
          <p:nvPr/>
        </p:nvPicPr>
        <p:blipFill>
          <a:blip r:embed="rId3"/>
          <a:stretch/>
        </p:blipFill>
        <p:spPr>
          <a:xfrm>
            <a:off x="1562040" y="4243320"/>
            <a:ext cx="1828800" cy="15778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" descr="soccer_ref_red_card_md_wht"/>
          <p:cNvPicPr/>
          <p:nvPr/>
        </p:nvPicPr>
        <p:blipFill>
          <a:blip r:embed="rId4"/>
          <a:stretch/>
        </p:blipFill>
        <p:spPr>
          <a:xfrm>
            <a:off x="5486400" y="4460760"/>
            <a:ext cx="16383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р Мяч, Мяч Милан, Мяч Реал, Обычный Мяч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2" name="Picture 9" descr="мир мяч"/>
          <p:cNvPicPr/>
          <p:nvPr/>
        </p:nvPicPr>
        <p:blipFill>
          <a:blip r:embed="rId1"/>
          <a:stretch/>
        </p:blipFill>
        <p:spPr>
          <a:xfrm>
            <a:off x="1295280" y="1905120"/>
            <a:ext cx="1828800" cy="1447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мяч милан"/>
          <p:cNvPicPr/>
          <p:nvPr/>
        </p:nvPicPr>
        <p:blipFill>
          <a:blip r:embed="rId2"/>
          <a:stretch/>
        </p:blipFill>
        <p:spPr>
          <a:xfrm>
            <a:off x="6024600" y="20494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1" descr="мЯч реал"/>
          <p:cNvPicPr/>
          <p:nvPr/>
        </p:nvPicPr>
        <p:blipFill>
          <a:blip r:embed="rId3"/>
          <a:stretch/>
        </p:blipFill>
        <p:spPr>
          <a:xfrm>
            <a:off x="1857240" y="441324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4" descr="j0404938"/>
          <p:cNvPicPr/>
          <p:nvPr/>
        </p:nvPicPr>
        <p:blipFill>
          <a:blip r:embed="rId4"/>
          <a:stretch/>
        </p:blipFill>
        <p:spPr>
          <a:xfrm>
            <a:off x="5135400" y="3938760"/>
            <a:ext cx="30639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иография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ршинин Никита Андрееви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 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класса школы № 1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рождения: 20 октября 1998г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лекаюсь футболом и плавань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Футбо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евятикратный чемпион России по футболу — московский «Спартак». Сезон 1998/1999 год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5" descr="footbol"/>
          <p:cNvPicPr/>
          <p:nvPr/>
        </p:nvPicPr>
        <p:blipFill>
          <a:blip r:embed="rId1"/>
          <a:stretch/>
        </p:blipFill>
        <p:spPr>
          <a:xfrm>
            <a:off x="4648320" y="251604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ональд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учший нападающий современной бразильской сборной — Рональдо. В финальном матче чемпионата мира 2002 года Бразилия — Германия он забил оба мяча своей сборной и принес Бразилии пятый титул чемпионов ми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7" descr="RONALi"/>
          <p:cNvPicPr/>
          <p:nvPr/>
        </p:nvPicPr>
        <p:blipFill>
          <a:blip r:embed="rId1"/>
          <a:stretch/>
        </p:blipFill>
        <p:spPr>
          <a:xfrm>
            <a:off x="4876920" y="1905120"/>
            <a:ext cx="264456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Это интересно!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утбол — бесспорно, самая популярная и самая массовая спортивная игра. В нее играют на всех континентах от школьника до убеленных сединой мужей. Футбол — это скорость, сила, ловкость, быстрота реакци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дина футбола — Англия. И само слово «футбол» английское, оно произошло от foot — нога и ball — мяч. Однако еще две тысячи лет назад, задолго до того, как кожаный мяч появился в Англии, в него играли юноши в Древнем Китае. Игра с мячом была широко распространена и в Древней Греции. У греков игру в мяч заимствовали римляне. Она стала любимым развлечением римских воинов, которые играли мячом из толстой воловьей кожи, набитой соломой. Благодаря Риму в 14 веке эта игра стала известна на Британских островах. В средневековый английский футбол играли азартно, но очень грубо. Сама игра превращалась часто в дикую свалку на улицах. Власти вели упорную войну с футболом; были изданы даже королевские указы о запрещении игры. Но популярность футбола была настолько велика, что никакие указы не могли остановить ее триумфальное шествие. Именно тогда футбол получил свое нынешнее название. В 1863 году была основана первая в мире футбольная ассоциация и разработаны официальные правила игры, в 1904 году возникла Международная федерация футбольных ассоциа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2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ел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8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 из самых знаменитых футболистов в мире бразильский нападающий Пеле очень точно подметил: «Футбол — это трудная игра, ведь в нее играют ногами, а думать надо голов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динственный футболист в истории, который становился трехкратным чемпионом мира в качестве игрока (1958, 1962, 197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7" descr="pele1"/>
          <p:cNvPicPr/>
          <p:nvPr/>
        </p:nvPicPr>
        <p:blipFill>
          <a:blip r:embed="rId1"/>
          <a:stretch/>
        </p:blipFill>
        <p:spPr>
          <a:xfrm>
            <a:off x="5105520" y="1752480"/>
            <a:ext cx="2501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ев Яши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олотой мяч» — высшая награда для европейских футболистов. Лев Яшин стал его обладателем в 1963 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7" descr="yash1"/>
          <p:cNvPicPr/>
          <p:nvPr/>
        </p:nvPicPr>
        <p:blipFill>
          <a:blip r:embed="rId1"/>
          <a:stretch/>
        </p:blipFill>
        <p:spPr>
          <a:xfrm>
            <a:off x="5110200" y="1600200"/>
            <a:ext cx="3114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ишель Платин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ранцуз Мишель Платини несколько раз признавался лучшим футболистом Европы. В 1984 году в составе сборной Франции он стал чемпионом Европы. Наибольшую известность получил, играя за итальянский клуб «Ювентус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7" descr="platini1"/>
          <p:cNvPicPr/>
          <p:nvPr/>
        </p:nvPicPr>
        <p:blipFill>
          <a:blip r:embed="rId1"/>
          <a:stretch/>
        </p:blipFill>
        <p:spPr>
          <a:xfrm>
            <a:off x="5154480" y="1600200"/>
            <a:ext cx="302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иего Марадон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ающийся аргентинский футболист Марадона —  один из лучших нападающих в истории мирового футбо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7" descr="marad"/>
          <p:cNvPicPr/>
          <p:nvPr/>
        </p:nvPicPr>
        <p:blipFill>
          <a:blip r:embed="rId1"/>
          <a:stretch/>
        </p:blipFill>
        <p:spPr>
          <a:xfrm>
            <a:off x="5148360" y="1600200"/>
            <a:ext cx="303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13:4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